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9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9.jpeg" ContentType="image/jpeg"/>
  <Override PartName="/ppt/media/image23.wmf" ContentType="image/x-wm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470-BDB3-40B0-82E6-9FB84F4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5D5-E760-4987-8B2D-BA6661A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9E4-D78E-4152-B374-B88B38C6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A62-134A-4AF7-8423-F86DF560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296-D7EE-46A4-9372-AC844F0B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42B7-0E59-4351-B206-3241B070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77FC-3B14-4857-904B-2FDA83D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739-6BBC-4464-B682-2222E1A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362-0CCF-4586-8A11-4B2E906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12F3-AB8D-4E48-AED2-A8E00622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8D43-855C-4DB7-990A-50DA4625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629-987C-495A-8FCD-99AE6A2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67B2-A17C-46DB-8FF3-C728ABF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2A8-97A4-421E-8B79-5839126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A543-AD25-44EB-8D64-0F7449D3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6654-385F-4D09-ACB7-5F0805CB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F4A3-1DE1-4E5B-A0BF-A4568B25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7D3-CF95-4C34-8C92-3136B06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3B1-9BF1-489F-8E4A-B0FA1A6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BA5-87D6-4E87-AFF5-2EE43CB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DEF-2C68-4E5E-8B36-A481D5B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584-FB24-4763-9116-65935F1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C64-0EE0-4EE0-AEB2-51C4BE5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231-52B4-45B5-A5F1-3E10230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D33-91BA-42A8-9153-9224AA78A97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564-5410-4742-B894-A86B90C9113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ULTI LEVEL ANALYSIS IN SUPPORT OF                              HOME OWNERSHIP AND TITLE PROTECTION ACT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 HB-1506)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tecting Homeowners - Protecting Investors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VA HOUSE OF DELEGATE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7 January 2011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nalysis by Daniel P. Pennell, PMP, LSSG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2279520"/>
          </a:xfrm>
          <a:prstGeom prst="rect">
            <a:avLst/>
          </a:prstGeom>
          <a:ln w="25560">
            <a:solidFill>
              <a:srgbClr val="dddddd"/>
            </a:solidFill>
            <a:miter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577800"/>
            <a:ext cx="8076960" cy="567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560520"/>
            <a:ext cx="8076960" cy="5749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555480"/>
            <a:ext cx="8076960" cy="572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560520"/>
            <a:ext cx="8076960" cy="5749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566640"/>
            <a:ext cx="807696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685800"/>
            <a:ext cx="83822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ax Gardner’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ankruptcy Boot Camp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558720"/>
            <a:ext cx="8076960" cy="5751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3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568440"/>
            <a:ext cx="807696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36:12Z</dcterms:created>
  <dc:creator> </dc:creator>
  <dc:description/>
  <dc:language>en-US</dc:language>
  <cp:lastModifiedBy> </cp:lastModifiedBy>
  <dcterms:modified xsi:type="dcterms:W3CDTF">2011-01-23T18:51:07Z</dcterms:modified>
  <cp:revision>7</cp:revision>
  <dc:subject/>
  <dc:title>U.S. BANK v. IBANEZ</dc:title>
</cp:coreProperties>
</file>